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A413-F526-4F8A-92C5-B11C700051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ED03-8CBF-46DE-B317-0EE12C9C28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D52D-C082-443F-9846-D46F195DB9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EC4B-81B3-40CC-A2E6-091EA00A03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4455-A90F-4EE0-A4B1-A69B629BA7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83C2-C75D-4C8B-AEB3-6F611496CF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A2D8-D757-4FBD-824E-3FDDE69850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8403-550B-4805-AD55-5AF2C388B4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6B6A-F4B2-4026-BA42-FDC0603805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7D0C-D6B0-46D6-8E08-903F6C352C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BE05-62D1-4A74-A239-F0120984F2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56C5-5F78-4FE7-9EA1-E627445C69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50EA-3555-43F6-B8BB-242201D602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6926-1113-4E5C-A37D-2E0A61618A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7D2-81A5-4864-9F86-1C002FFB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E2B-5407-4350-8C12-2F33E89E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8AB-BCA8-49FC-9205-695707FD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E8D-0A52-4408-A9FF-6156E011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3216-005A-4FBB-99BB-E598A3A1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7FEA-0AD2-4336-BB4C-BF0C5C73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5102-8C11-4C49-8CAB-EF98641E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2B5D-ED80-4E3F-99AD-0B2E3DB3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B8F6-1EE8-4C8F-A692-06D91C0C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6E1B-C40D-4BC0-B468-60C5657A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5361-DC2B-452D-A895-8AE855A0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133-74F1-4067-9BC9-C9340D88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E04D-7445-4727-A559-AC40DC90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F280-6BAA-40FF-9995-7B9F7BBA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7EF8-DB81-4E78-9796-F853F1B6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63DC-B6C2-4080-A70B-F5EE2EE3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932C-BFDF-418A-B7EE-670611E3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B52-BA92-43E0-A898-CCAFD1AE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45C-FBC6-4EF0-8FD4-848F307C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EF5-02BB-43BF-82C2-6E02B669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072-7532-4DEF-93C5-4AB13347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833-3E8A-4BFC-AFF7-41DC4E85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3E5-B0D1-462B-8742-49860E3D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77C-3283-4F5C-B417-50ACC58E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F380-FD98-4CDD-BD51-10287B3A8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B434-BD0F-42FD-9E07-A7E507EDE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spaces- Contexte 6 B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600200" y="44197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nse à prend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7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Russie en hiver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8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au Hawaii en printemp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9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Angleterre en automn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0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Polynésie en été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Directions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gardez la destination présentée. Puis, dites à votre partenaire où vous allez aller là. Votre partenaire doit vous recommander un vêtement pour le voy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ariez l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odè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E1: Je vais en France pour l’été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Qu’est-ce je dois prendr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E2: Il fait chaud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Prends un maillot de bain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au Québec en hiver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à la Martinique au printemp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3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Suisse en automn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4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Australie en été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5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Finlande au printemp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au Bermuda en été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1-13T20:00:23Z</dcterms:modified>
  <cp:revision>77</cp:revision>
  <dc:subject/>
  <dc:title>Allez, viens! – Level 2</dc:title>
</cp:coreProperties>
</file>